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67D-DA92-4E45-9481-57EB5EA9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7DC-BFEE-45DD-93A8-23EEF7F6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75E38-5F00-4998-9254-0166A4D1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354C5-169B-4222-A405-5420268B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EEB77-5964-44CF-AE4D-BE9E4389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BEF4A-6C1E-434F-B511-6A4F99FA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7A71F-8941-4B4C-9864-3462E75F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0EBDB-3F66-4912-AF4B-4FB02029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C160B-E194-4852-B095-F6F1D9E5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9D4E8-0D37-4448-AA31-9FF0445E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A63A0-4CD8-4215-8CFF-4E479E02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32802-7014-4CB4-8671-A3156A25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8014-8310-4070-9C62-EC50E589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BB6E7-5034-4D84-A0C7-60F0E135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1B693-94DA-457C-916F-D9E3CF8E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CBFB0-553F-4CFD-859D-9D4B9E28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ABDAC-B113-4E74-B2D5-99652F7A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5F0DE-304D-49D9-9876-AE40F79A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CA7FC-CB13-4FD9-B7FE-EAF62604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FDE5A-ABB2-4836-8B5B-A2CD2C0E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C8A17-DBB2-4DA6-ADF5-C975A85A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951FF-893E-40D3-9BB5-A09C96B5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C30A4-7341-4815-81DA-6B8BF695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C1F-CD64-4821-BE3B-A66F452A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7B52C-8F63-4F51-BF15-B5CE593F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6760A-C7EB-4BF1-8C01-2791F515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4621F-91F4-411D-887B-6D71EA24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AEB3D-C171-4B1F-8DB6-D10D89E4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6EF81-2B33-4AEC-BD04-9D34FC50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F5E71-F6FE-4A9E-8B14-78DCBBA4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E9B80-FAA8-4D78-8F53-F40BDB13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3C1FF-5558-4B8E-A2FB-8BE1FF08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CB5CA-AB97-494D-AF54-61853E0C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FFB48-450C-46E5-9679-E6384110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BA75-D261-4EA8-B790-D07B359C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91F98-3B26-4A4E-A3D9-03F78448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9A00E-1746-4795-9372-E3FD429A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82FDD-F656-440D-A0D9-9594DE7A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C3EE0-CD58-4106-9D73-8F835CDF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8B4E3-EDC6-42A9-8078-BE3EF7C8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ED255-10CA-48F3-8AF1-F7B53E4D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5A138-8798-4285-94A2-7B3D9EE5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5F9D8-D14A-4C53-8274-D5976287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90117-76D5-446F-87E8-7B62DF6F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9F254-C4C2-46B7-A8C3-D87C5897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18A6-B27A-412B-80E0-BA0AD881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017B1-D350-4CE4-9944-DE73AFCA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AFA9D-A691-46B2-A71B-73F8663E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54CAB-E69D-46C3-8094-8C20D1D7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FF699-ECE3-48CD-A628-90283FF1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4B540-7106-42D6-B527-92A155B2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126B7-DB04-4985-A073-EAA52BBD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C7CB4-C3FA-4989-94F3-C3D14E60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5A2E2-6EA8-449F-9BAD-EC520B4B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3C1188-12C7-4B8F-957E-7732BF7D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82073-15AE-4928-9AF6-AC700636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8739-F0BC-42E3-BBDC-A98C6099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29C9F-3AF7-47D0-A769-AF3119E7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6EA6F-AE2E-40B6-9F8E-71422D66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2BE60-FEB4-46D0-9F4B-0D496C6F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B3F69-6F75-4D1E-858D-A7DD72E2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5B382-AA9B-443A-B3AB-FE94DD0E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8758E-B713-4019-85C1-AB069AE4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CE76F-3D17-41A8-99B3-408295A1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9ABB6-74F9-40EE-9DFA-675DEE56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235F8-2329-47F0-B792-65C7400C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FDD13-7304-4D8F-BDA7-8EF0B49D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8473-27E5-4819-ACA7-270135FA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FEF5F-726D-4AC1-8092-F3BB0475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91D46-133D-4346-B066-D66504FE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082331-76BA-4786-AF72-D05F4794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C096D-B347-41EF-AD5C-56C7C9FF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A0139-C6EC-4220-88F3-B7CAF2C7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24BA9-3983-497F-BAB0-3B250BAB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80AF4-D928-48CD-B55E-3542AA1F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23AEB-CAFB-47CD-8710-D32A782D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FE9B7D-EB97-4747-8B1F-95DAF60A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DFAAA-6594-46CB-8B47-7057078C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8EBD-AA0B-4B5D-9F40-B8B6BE1A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31BE1-8C44-4DFF-9ADF-B9B31928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700E3-4068-4EFA-AF3A-DFE6C1F4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99AAE3-F997-4C8D-8F13-C9289EF8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0481E-BADF-4E55-9956-2443CC40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88811-ED95-4A0A-82A3-B5F19D16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936288-50B7-484F-A959-71C3F5A1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65D5D-6C6C-43B0-8896-7ED62A6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773EB-722E-4332-B75C-EE242E68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5F8D8-325D-496F-B719-0CED729E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D7842-3930-4F54-B590-DEDC3524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F656-B0A0-44E1-8F13-38392F6B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B23D7C-9BBC-4F6F-8B67-CF0DB0C9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CD609-821C-491F-89F1-DC871008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CDE44-F67E-47B0-B82E-900464EB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16AC34-1E96-4245-9A73-064D0080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C83505-D3FB-49C1-BFAD-AF10733D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9E30A-2D47-4AC9-8E10-E76C94C4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B5F92-44BB-4ABA-9DE6-BD29118A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582EFA-7C3D-4543-A355-CD7A4468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15DF22-C9A2-4104-A42C-6FED6A13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7E3A96-4958-4606-BCAB-5413779B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8A90-80E0-4BF5-B0DA-FAEF985E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82E7CE-59CE-43E8-9890-ECCBFC44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99172-8DE4-4B16-8338-C057679C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3AE69-5BFC-4A33-851B-513D5F42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FD5BAD-0AAC-4759-B9B7-58F93803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C5370A-A0FA-474F-B999-1846F501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BF8367-FC44-49D2-A7A9-E0397B3A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7B47F0-101C-4B6A-B08E-1CA5FA1A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F901CF-9440-47D3-A8F3-1AC86615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9AD8BE-9311-41E1-AD84-84D009F7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B00D2C-E4A7-4063-A31E-BECAD192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716-54D7-4632-8F97-2135CB36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2C71-5CC6-4904-AB27-B791E635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49AB1C-22C5-4D58-97FD-40B0B6CD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F062EE-F238-4403-87AD-C04EA3C3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642F0-5A63-40AD-8BB5-A964F9ED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F39BF-192E-434A-B1C2-3984227E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4E1A13-38EA-4352-ADBE-CC648251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63CAA3-0248-4032-B356-E0988CD3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25740E-FCF7-4ABA-A977-B6093888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04F58-19D0-4249-9F57-D26AAE92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E852A6-D444-4BDC-BB10-9E843243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AA0BEF-40D7-4DE3-AD7F-D1D9A583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6FAC-769E-48D8-9F1B-F3230B67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830509-7EC6-41ED-92C0-2BEA7EBC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D0663-0003-4041-B5ED-529A3CCF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7E2669-09D7-4B02-AAC8-CC1D068E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87175-A60A-49E3-B843-456F7DE8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8E3BC-C206-46DA-9AA2-6D851F4C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608F86-EED1-46A0-807F-E6A8A12E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79DB1A-3C66-4683-9E60-6DD49EE6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D5C8B3-5CE3-432E-AC2A-AEB84E80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3BED4D-8CF3-4BDB-B284-21A2768B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9CFA4A-CE7C-4768-A1C2-AF4B6429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974A-CF91-4827-B2EE-1C8E18BA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8158B8-67BE-4044-843E-AA717405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FCC28D-4A7A-49AC-908C-2E43446A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23DBC8-4552-4C16-87F5-DB69A16C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E170CB-73CD-4400-A4BE-2F133B3B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C53293-1863-45D6-8243-9FC79BBE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70EAED-418E-47EC-8F2F-1AD9DEEF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396C60-31CE-4660-BFA1-B0765C77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C24A69-5537-4E4C-8AF2-3C537CD3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FB9BCB-B530-4338-A367-B6128BBE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2A70D6-E967-41FE-A42C-CDCB82F6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2E04-7301-4563-A57E-182DE3E8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D7A87-C376-483B-BC58-BB1261A0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1934F3-F6A1-42EA-B301-92474453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5E77EC-62EC-4A72-BDF8-8A6DFA66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38A20A-7E9B-4C8F-A1B1-B6A1AD60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D915DD-C0D4-4403-A68A-4AFF9284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C84F6E-54FA-4AC7-98EB-E3B42ED0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CDC310-50C7-487A-9BF2-4DB09972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6D427F-790F-4641-B801-1BD88742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DDD46E-7345-44F7-91B0-03A0AEA2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6DC267-168C-417F-9B3D-9D5D20D4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CA4D-5889-4230-B38B-BE4CABE8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EA2199-0299-4600-AB35-A933AC37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CBF074-1213-486D-AD1E-EA3793A5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C90F8F-B790-41A6-9139-C35D204C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F3AB11-0BBC-4126-9FFC-87058C84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9D56B9-4F36-45FA-BA6F-2C8D2B92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695F58-62D8-4E24-B386-9B734546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6E2710-9A72-481A-B904-15921B4C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BE1BEE-7562-4B5A-A68D-D62AA456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211B71-DA09-4FDD-B315-CE32EC90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5AA76E-F13F-4F1F-9461-15C1C671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C9D21-37A4-4848-8420-D63F2F78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7798C2-D92D-4B49-95BC-30C507E8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D86BA2-AD56-456B-924C-10192C53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1B90A5-B742-4F5E-A855-C302982A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862BF0-F65F-4CDD-8160-AE0789D8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08B373-72DB-430B-8C2A-F6A54B0D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7AF511-7F92-4643-807B-DFC8B36E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478A0C-D280-4600-9525-55251EF6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B10592-5BF3-4F7B-947A-31BC78DB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903545-B0DC-4DBF-BB79-59D7173C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7F1CAA-4F95-4118-84A9-32F3A6F2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BF2DD-199C-4D80-A4DB-2CDD0CE4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844A64-170B-4828-94C8-B1939545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E4756C-9B3C-4685-97D2-1E4F7FD9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00417D-D3E0-4D8E-86C5-3E74801C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B28E05-BCDF-4744-9E30-3D84144F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AA8A69-2181-4EA0-AF1C-32DBC33A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63A418-6028-4C32-9B15-926ADCF3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B8EC0D-E06C-4C45-BE08-A7C28E5A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DE3608-FE8A-4D14-A14C-AC414A3F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24825B-F735-4D2D-A3FB-A0656356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B23007-7AD8-4D19-B773-A0422A84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03FCE-F092-43D2-999F-BDD2C683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524890-FD27-4F7E-800A-443998A2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5BC785-2F80-4264-A407-23DF6A65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2D56F4-1FC4-4204-9FA5-75D4FC4B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FD3089-0618-43A2-A19C-0FC30BF4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543138-2417-4FE9-BD0C-485BD455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A899E0-DECC-4D60-8505-83A28583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EF054C-0566-4330-B865-A07A8B7B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D81E7F-317D-4DA8-AE51-7BD2552E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6FAFA2-9863-49AD-B85E-E370FA73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53F8C3-55B6-4D02-9FCB-C0636682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892FE-0DF5-489E-97A2-2C3ED7A5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85695F-ECE9-40A0-9A5E-EDEEFD3E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FC8E52-3733-4A9B-8A6B-F84F56B1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A58041-5C52-42E4-BDBD-C4D74609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5D65A8-0E92-4723-A569-9330320A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9835F8-174E-4369-B85D-E016D208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56ECFC-3BBE-4A67-80CB-7A2EEA21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59ECEA-464B-409B-A8F9-96EC7310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3D125E-A52E-40E2-A132-72E20C18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F56826-E2B1-495F-AF02-F487599F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AFEA30-FC43-41E6-9F2C-B7B55DE0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51F5C-C321-4D37-AA71-CD87449C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FB418C-ACB4-43A2-82A3-9F24D51F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51D93C-C522-49A7-BBF3-4A61677E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CA22BF-3266-417D-B7DD-D9EAA33D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0DC180-3A6A-4D7D-8D91-75275787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965EEF-5DE7-4240-9EA2-BDC44E51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576F50-D338-485F-A3E7-A10DABAE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C44777-F024-4094-82CB-0375DB3F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77F965-540C-4D88-BB65-FE6B2DB4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CE0876-7C58-4E53-BF1A-C43FEFE3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E632C4-ECE0-4F2D-9708-2B388149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3D4-6C4B-4395-864E-D120283C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4E607-062C-47E7-A952-F6BC8FDF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E43350-8C0D-416B-AFEC-22B3B316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432E0ED-7706-4019-A787-D9FF7036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BE7BE43-8CF4-4ED2-89C3-62201437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67CFA82-7468-48B9-A3D9-E99F5CB3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494FCE7-DCE5-473F-93F8-705BF943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DEB2FAA-6073-4CE1-B44B-E75EEAF0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F0436DC-5AB9-4AED-B1A6-41491B28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14D45F2-894D-4815-9CAC-42F95AF9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A8FEBB9-5DDD-43F1-9120-7429DBB6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05B0045-E331-4275-927E-1FB9F3F4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019C6-1BD1-48CF-9DFF-B0B2AFDD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F52B6C7-8BED-458D-9DA4-58C86FC1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654F449-2104-4245-8DA9-690846AE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963D5E0-3411-4DE7-98FD-6F467667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592051-4348-445C-B69B-1BEA4CAF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CFCE6D-D5DF-4EAD-8470-F6635A54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0FB7F0-2386-4BF1-8023-4D5F63FD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ACC98D-B71C-4C20-ACC8-29D9FD96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6A772B-4924-4F1B-BEB0-27AB724F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EA3770-41B9-4FCD-9E76-B8D2124A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03E077-6769-41EB-92D4-98D6AE5F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B8C83-04FC-4108-9324-ACEB2D9D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BFB315-0B4B-4577-B1F6-D03CF75E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EDE6E4-AB19-41F9-87EA-CF1DF0A6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034A07-F995-4530-8EF5-EA8C3293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8DA1B3-4086-4843-A832-7F94CB16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4FCC02-05DB-445F-812D-C4A200B0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A6F4FF-F7E0-48FC-A602-25CC933F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94E6FB-3F14-42B5-B7E0-43E73D2A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616F75-DC06-4D98-B5BE-C8E8BFFF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DCFFD9-E3E3-406D-9BD2-F5AA9BB0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4F5966-1DBE-4EA1-B67A-124E16F8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4D0F9-801F-4C73-9552-4899238E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5BC89A-09A8-4D68-BB23-76C8F254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DC0173-ECFC-4DD6-BC5B-7A744371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E688D2-6C40-4A3E-838A-170A5592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0D3152-7E25-43D0-B537-C347B1D5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9F9C60-D788-446F-A6B8-C8FADC67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8B3B72-BA18-4557-B8C4-586C3A3F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B5E2A7-CF1D-43A7-A2B1-A8FAC6E8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A8A603-7471-47B7-B1D5-BD30F5B3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B1B622-A566-4EB5-8DE6-29B5949B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DA92EC-DBCA-40AB-947D-BFFDF8A6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3AD90-0D64-4D85-9A3B-7F1B2314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57E423-F22F-417A-9241-372F555E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8B8B04-3FE6-41EC-B7E8-B187D1CA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EC3999-7310-4719-AC4A-FAF24597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7D6325-1480-4D93-B092-93EA374E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91F322-2431-42C5-A803-E867BE19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06F360-A2AE-4506-81E3-90802DE2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6AC50B-1C09-4B2A-AF02-824E8ACE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B2EE40-6322-43E7-B796-4474FE9A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8FFA32-D279-4898-9929-1FA8C602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9F6596-B7DC-415B-AEDA-68EC969D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6F405-68E9-4E21-ACEF-456CF5F5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1D691D-29FF-4D00-A406-2CE7CA6F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F36332-3A28-4611-B227-A780FFB2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233758-14C0-41DF-B6E6-8F182755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98851E-7D44-4520-A70B-5EBFF055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790C5E-5628-4B1C-A520-DC5E42B1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D91428-F226-45CE-9629-B8FC1050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FC94B2-488B-425D-8444-1CC1FA05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AC9169-E237-4556-9E19-C9CC4F2A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ACC3CB-9B04-45BF-A17D-7A8B707F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38D4CA-C5E4-4825-8E14-A4B7B666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A927C-3F8A-4E30-84EF-63B8EF8E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7A53B2-6445-48E7-B4ED-33E4F83B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47FDF4-2F93-4486-95E5-E88A3B58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859CE4-9F7F-4137-AD95-96C92AD6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984596-EC06-4171-ABAA-ECBF2F5E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032A8A-58EF-4A5B-9CA4-550330E7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FAC569-0837-432C-B00B-E359C450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54DC20-EE05-454C-AA73-AAE0D1FC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ADCD9A-DCC5-4FE6-8875-B48FF49B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00FBF7-3826-40B2-85E3-23CD163F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D4D6F0-6201-456E-8413-5ED339BA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A1FC7-29CC-482E-8080-54F4E02B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1238D5-DCC3-40FC-909A-57AECDEC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CEBD85-0A25-433A-84B0-E92DF739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5F4C7A-5DBD-4E68-BA2F-A23D36CE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F41C4F-9468-4CCF-8294-4E9BD6EA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9FEBFE-2BA9-4A5B-8240-30DE8A99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2B90EB-2699-48F3-8D22-BACFF5C7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44D50C-4054-4F6A-B2A2-2B08E4C3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49E611-0579-4094-8D59-87AD53CB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17D99B-0246-4F50-A3E0-B3D32F44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7A981B-2A01-4572-A4CB-5BB7D40F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D4B7-8433-4E2D-A627-D25D791C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52A295-22BF-4637-B5DB-D301D5DC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11105C-84BB-4A58-B168-8FC1838F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1044FF-8781-477F-BC9C-02F1162D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185852-99B9-44DE-A972-F572C0C1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9DFC2F-E036-4A3D-A8B4-34CFC34E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30B470-AB10-45F0-8E53-D23818DD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2E845B-BA9A-46F4-A021-CA312CF7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7947EA-9154-4CE1-AB7A-9AAD7E5C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3D4CDC6-FE08-471A-8C2C-57977652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3246F04-3A2B-43DB-995A-C8FF5317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E5E9C-44AE-4230-A233-396C0BC1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BF9D24-25FE-4E9D-A9FB-B0806EF3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F97DA8-2C92-4C26-94A0-7444F6C1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A89A9E-09F8-475A-A156-00B9BC73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20A7CA-BFB0-403F-855D-B9CA572D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161D93-792D-40CF-9F8E-1D61E2B9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F92FA3-704B-4A1B-9B8D-B19182BB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2E8130-8212-4D24-8C41-64858E69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3C6-1049-471C-8BC7-9F5996E3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155B-EE1D-46B3-8542-96CEA704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D4EEB-5B89-4EC8-BC4E-60764A7F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D0060-8ADD-4FF9-AF32-38A63353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44107-BE6F-45DB-AA19-F0152362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093E1-D302-4505-8E4A-9CC1A0B2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C83E2-F8E5-4866-B3A0-7445A341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1CA52-7C72-424B-9FF8-330F15C0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7972B-1DD1-4235-8186-D0F57947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17AE5-9BD8-4838-883C-FFAD8962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65600-BF33-42F4-A9B0-E61C458B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869-4690-4FBF-9526-DF37A934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61918-6E5D-433F-87A2-804C71EB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56E1D-D32A-4AB7-A5C1-368457A2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E47E3-948D-40F2-90D2-0240831F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8CCC0-8241-4A1C-ADA9-9D525A6D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03EB7-8B14-4BB5-8F24-FA7BEBF0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793AB-136B-4A62-B2E4-E578BD62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92FCA-3FF7-4494-AB16-5A87CE54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B4D03-B3EB-431B-B9EB-8CC6F9F9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CA2B6-3ED1-4FBB-9D75-F8423E0B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DD87D-8E39-4763-8815-DC528343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8DE-19A2-4DD1-AF25-C49A755A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6C6C1-FFC3-49C6-A81D-A7FEE4AB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8A7BA-641E-4B68-87C5-626919EC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F7EFF-7DD2-4E45-A8DC-74235063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3DACB-FDE4-4E74-8BC3-6A1CDFD7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F1B5D-93CC-4A2B-A964-5EFEE140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73654-82C2-434A-8C8F-988F6E13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2320F-1644-4476-B2A2-630EECB8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59FC7-1642-474E-BAC7-555C1F76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73424-2078-409C-87A4-F6EBE6D2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99FFF-9D73-47B9-8F8B-58088AF1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3A8-09C3-4909-80FD-DA2B6900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03F4F-6697-47AB-AA0A-1FE612EC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0EF13-064D-47A2-8B8C-42C5D2DA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855B0-2EC8-48BC-AD3C-E4FE01DF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ACD17-FB23-4C10-949D-3C8BE2A4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60040-E7C9-4130-AB2D-AEBD18E0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EE11B-1674-478C-913C-75961F86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4578B-1E33-4366-839A-CA2D86F5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F6D5E-2A79-4D37-AF36-DF59FFE8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05132-44E2-412A-934C-28DF1C92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E3F32-9B38-41D2-92B3-026B5999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636-5ECB-4896-A212-931143B5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6738D-8BFA-4E8A-8823-23A158CD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61082-51A1-4856-A746-41214B1B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403C4-8D11-45EC-A148-0E216885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BE782-2E46-450E-A62C-F35121C9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56C04-9211-4854-BB10-D67CDE21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7D779-A77C-491E-9D5A-992507C0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E2E1B-851A-40A0-880B-0BD910BE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AC93B-3E3E-475C-BBB7-5C31AE68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59D3E-058B-4685-8E3F-089AD3CD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7487D-5288-4EBE-8FDB-29917626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670-28C0-4E3E-B394-A68E8BAA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9AC52-5EF7-450F-82FA-D94FD37C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DD2C3-9B5C-4E69-BDD1-7A54B421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E4447-78D2-4108-A40B-E6B6CFBC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CE78D-E137-4EE0-9808-F5C9FC0D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7D219-F6A0-4353-AF5B-593FA388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BCCF7-DAA4-46A3-BCC1-5978BB6E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C8911-87C7-4A75-943D-422825CA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DF469-5BB3-4CA6-8B87-547C6B07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91401-726E-48B0-B1F4-127E8286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6BBBA-F618-473D-AE78-08AEC899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E5A0-C741-4055-AAA9-6A072E13AA3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E33F-6639-4A6A-A4DF-0AC8ACB1109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FE0B-7165-487B-B3D8-27FCC4280124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525C-61C0-44DD-8E03-8EB76FFED16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5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5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DFDB-C752-4BAA-A5CD-CF514D5D372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60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B5D7-3099-4F47-B133-F5AD004D28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64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54A0-0B90-49C0-8BAF-3EA9ACE551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C950-3910-49EE-AEE7-D864B977E65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72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8A26-6681-40A1-A580-A4283CF34CE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0AFC-E70D-4CEC-9D90-DFEE2B6CCFF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5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4D64-506E-4847-9E95-D9EC38D5F44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571B-D3EA-444C-B37B-10A4CCB3A7F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6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856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857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59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5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5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6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7E25-D2B8-436E-9FEE-A7DA5B7554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6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6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6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BEF6-1D5F-41A1-B6AF-FF684DB01C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6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6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3377-C6E1-4504-9759-AEE55C8D15E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6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6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6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AA19-0D7C-46F0-8499-78CA7E47C22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102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29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0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 type="dt" idx="7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 type="ftr" idx="7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 type="sldNum" idx="7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1EC9-D0F9-4033-99B1-EB1D5B3418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3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4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5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6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7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8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9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0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1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2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dt" idx="73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 type="ftr" idx="74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 type="sldNum" idx="75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8CF9-2DD0-4947-837B-95DF834118D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7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sldNum" idx="7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8D96-20B1-4CAE-A41C-CAA1397A66B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ftr" idx="7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7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1AE6-132E-4478-8B9D-A0DCBE14038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33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234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5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8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8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8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FF57-19C3-457C-9589-A6110BB877A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78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279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dt" idx="8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ftr" idx="8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sldNum" idx="8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5716-6965-4509-8C44-33BFBEDC0EF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D7A3-4D2D-4AFD-8072-D13E8DD563C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 type="dt" idx="8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 type="ftr" idx="8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 type="sldNum" idx="9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941A-ADC0-4058-A5D6-931536CCE78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5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 type="dt" idx="9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 type="ftr" idx="9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 type="sldNum" idx="9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7F49-F85B-4217-9A4D-7363995911F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 type="dt" idx="9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5FE0-AB42-45D5-9EAC-BC022C4D30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dt" idx="9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 type="sldNum" idx="9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DDEF-D832-45D1-B684-EB92958DB0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49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50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9552-9019-4397-B328-A18CB540486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5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6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7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99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0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6FBE-7D23-4DB3-8C25-E5F7F8E01B8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5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6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7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49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0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B4AE-1920-4FB2-89A3-E2D879721D8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98FF-128C-45A3-A1B4-383E4F37887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7392-A6EA-462A-B590-51E9319FBA6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3649-EAC2-4364-A9CE-AEAA1DC32D7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Заголовок 1" descr=""/>
          <p:cNvPicPr/>
          <p:nvPr/>
        </p:nvPicPr>
        <p:blipFill>
          <a:blip r:embed="rId2"/>
          <a:stretch/>
        </p:blipFill>
        <p:spPr>
          <a:xfrm>
            <a:off x="-122400" y="-6480"/>
            <a:ext cx="954756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ubTitle"/>
          </p:nvPr>
        </p:nvSpPr>
        <p:spPr>
          <a:xfrm>
            <a:off x="285840" y="35712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3" name="Прямоугольник 4"/>
          <p:cNvSpPr/>
          <p:nvPr/>
        </p:nvSpPr>
        <p:spPr>
          <a:xfrm>
            <a:off x="285840" y="357120"/>
            <a:ext cx="85723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Verdana"/>
              </a:rPr>
              <a:t>4) Твои родител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Verdana"/>
              </a:rPr>
              <a:t>2 класс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оба курят – 6, 3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оба не курят – 37, 5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курит отец – 56, 2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Verdana"/>
              </a:rPr>
              <a:t>5 класс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оба курят – 23, 5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оба не курят – 35, 2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курит отец – 41, 3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Verdana"/>
              </a:rPr>
              <a:t>9 класс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оба курят – 18, 8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оба не курят – 18, 8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курит отец – 62, 4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50" autoRev="1" fill="hold"/>
                                        <p:tgtEl>
                                          <p:spTgt spid="1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8" dur="250" autoRev="1" fill="hold"/>
                                        <p:tgtEl>
                                          <p:spTgt spid="1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9" dur="250" autoRev="1" fill="hold"/>
                                        <p:tgtEl>
                                          <p:spTgt spid="1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1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1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3" dur="250" autoRev="1" fill="hold"/>
                                        <p:tgtEl>
                                          <p:spTgt spid="1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1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1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1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1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1" dur="250" autoRev="1" fill="hold"/>
                                        <p:tgtEl>
                                          <p:spTgt spid="1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50" autoRev="1" fill="hold"/>
                                        <p:tgtEl>
                                          <p:spTgt spid="1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4" dur="250" autoRev="1" fill="hold"/>
                                        <p:tgtEl>
                                          <p:spTgt spid="1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5" dur="250" autoRev="1" fill="hold"/>
                                        <p:tgtEl>
                                          <p:spTgt spid="1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50" autoRev="1" fill="hold"/>
                                        <p:tgtEl>
                                          <p:spTgt spid="1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8" dur="250" autoRev="1" fill="hold"/>
                                        <p:tgtEl>
                                          <p:spTgt spid="1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9" dur="250" autoRev="1" fill="hold"/>
                                        <p:tgtEl>
                                          <p:spTgt spid="1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50" autoRev="1" fill="hold"/>
                                        <p:tgtEl>
                                          <p:spTgt spid="1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2" dur="250" autoRev="1" fill="hold"/>
                                        <p:tgtEl>
                                          <p:spTgt spid="1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3" dur="250" autoRev="1" fill="hold"/>
                                        <p:tgtEl>
                                          <p:spTgt spid="1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1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1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" dur="250" autoRev="1" fill="hold"/>
                                        <p:tgtEl>
                                          <p:spTgt spid="1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50" autoRev="1" fill="hold"/>
                                        <p:tgtEl>
                                          <p:spTgt spid="1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0" dur="250" autoRev="1" fill="hold"/>
                                        <p:tgtEl>
                                          <p:spTgt spid="1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250" autoRev="1" fill="hold"/>
                                        <p:tgtEl>
                                          <p:spTgt spid="1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50" autoRev="1" fill="hold"/>
                                        <p:tgtEl>
                                          <p:spTgt spid="1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4" dur="250" autoRev="1" fill="hold"/>
                                        <p:tgtEl>
                                          <p:spTgt spid="1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5" dur="250" autoRev="1" fill="hold"/>
                                        <p:tgtEl>
                                          <p:spTgt spid="15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50" autoRev="1" fill="hold"/>
                                        <p:tgtEl>
                                          <p:spTgt spid="15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8" dur="250" autoRev="1" fill="hold"/>
                                        <p:tgtEl>
                                          <p:spTgt spid="15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9" dur="250" autoRev="1" fill="hold"/>
                                        <p:tgtEl>
                                          <p:spTgt spid="15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50" autoRev="1" fill="hold"/>
                                        <p:tgtEl>
                                          <p:spTgt spid="15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2" dur="250" autoRev="1" fill="hold"/>
                                        <p:tgtEl>
                                          <p:spTgt spid="15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3" dur="250" autoRev="1" fill="hold"/>
                                        <p:tgtEl>
                                          <p:spTgt spid="15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50" autoRev="1" fill="hold"/>
                                        <p:tgtEl>
                                          <p:spTgt spid="15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6" dur="250" autoRev="1" fill="hold"/>
                                        <p:tgtEl>
                                          <p:spTgt spid="15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7" dur="250" autoRev="1" fill="hold"/>
                                        <p:tgtEl>
                                          <p:spTgt spid="15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a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28584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Verdana"/>
              </a:rPr>
              <a:t>9) Что изменилось в жизни при проявлении вредных привычек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- недоверие родителей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- заболевание дыхательной сист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(кашель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- трудности в выполнении физических упражне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6" name="Picture 2" descr="C:\Documents and Settings\Admin\Рабочий стол\001336_579388_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Заголовок 1" descr=""/>
          <p:cNvPicPr/>
          <p:nvPr/>
        </p:nvPicPr>
        <p:blipFill>
          <a:blip r:embed="rId2"/>
          <a:stretch/>
        </p:blipFill>
        <p:spPr>
          <a:xfrm>
            <a:off x="-6480" y="566640"/>
            <a:ext cx="93394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285840" y="35712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1" name="Диаграмма 3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Диаграмма 6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357120" y="357120"/>
            <a:ext cx="8501040" cy="6143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8) Как часто ты куришь, употребляешь спиртные напит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4" name="Диаграмма 4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524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ubTitle"/>
          </p:nvPr>
        </p:nvSpPr>
        <p:spPr>
          <a:xfrm>
            <a:off x="357120" y="357120"/>
            <a:ext cx="8429760" cy="6143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Verdana"/>
              </a:rPr>
              <a:t>7) С какой целью ты это делаеш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6" name="Диаграмма 3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501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subTitle"/>
          </p:nvPr>
        </p:nvSpPr>
        <p:spPr>
          <a:xfrm>
            <a:off x="285840" y="35712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Verdana"/>
              </a:rPr>
              <a:t>1) Как ты относишься к мальчикам, которые имеют привычки курить, выпиват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8" name="Диаграмма 6" descr=""/>
          <p:cNvPicPr/>
          <p:nvPr/>
        </p:nvPicPr>
        <p:blipFill>
          <a:blip r:embed="rId1"/>
          <a:stretch/>
        </p:blipFill>
        <p:spPr>
          <a:xfrm>
            <a:off x="243000" y="357120"/>
            <a:ext cx="85010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ubTitle"/>
          </p:nvPr>
        </p:nvSpPr>
        <p:spPr>
          <a:xfrm>
            <a:off x="285840" y="35712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2) Как ты относишься к девочкам, которые имеют привычки курить, выпиват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0" name="Диаграмма 7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5010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285840" y="357120"/>
            <a:ext cx="8501040" cy="6143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9"/>
                </a:solidFill>
                <a:latin typeface="Verdana"/>
              </a:rPr>
              <a:t>3) Как твои родители относятся к таким привычка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8365a"/>
                </a:solidFill>
                <a:uFillTx/>
                <a:latin typeface="Verdana"/>
              </a:rPr>
              <a:t>2 класс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365a"/>
                </a:solidFill>
                <a:latin typeface="Verdana"/>
              </a:rPr>
              <a:t>категорически против – 43, 8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365a"/>
                </a:solidFill>
                <a:latin typeface="Verdana"/>
              </a:rPr>
              <a:t>осуждают – 43, 8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365a"/>
                </a:solidFill>
                <a:latin typeface="Verdana"/>
              </a:rPr>
              <a:t>безразлично – 12, 4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8365a"/>
                </a:solidFill>
                <a:uFillTx/>
                <a:latin typeface="Verdana"/>
              </a:rPr>
              <a:t>5 класс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365a"/>
                </a:solidFill>
                <a:latin typeface="Verdana"/>
              </a:rPr>
              <a:t>категорически против – 58, 8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365a"/>
                </a:solidFill>
                <a:latin typeface="Verdana"/>
              </a:rPr>
              <a:t>осуждают – 41, 2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365a"/>
                </a:solidFill>
                <a:latin typeface="Verdana"/>
              </a:rPr>
              <a:t>безразлично – 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8365a"/>
                </a:solidFill>
                <a:uFillTx/>
                <a:latin typeface="Verdana"/>
              </a:rPr>
              <a:t>9 класс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365a"/>
                </a:solidFill>
                <a:latin typeface="Verdana"/>
              </a:rPr>
              <a:t>категорически против – 62,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365a"/>
                </a:solidFill>
                <a:latin typeface="Verdana"/>
              </a:rPr>
              <a:t>осуждают – 31, 2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365a"/>
                </a:solidFill>
                <a:latin typeface="Verdana"/>
              </a:rPr>
              <a:t>безразлично – 6, 3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03:09Z</dcterms:created>
  <dc:creator>Инна</dc:creator>
  <dc:description/>
  <dc:language>en-US</dc:language>
  <cp:lastModifiedBy>тсош№3</cp:lastModifiedBy>
  <dcterms:modified xsi:type="dcterms:W3CDTF">2010-02-25T09:56:59Z</dcterms:modified>
  <cp:revision>72</cp:revision>
  <dc:subject/>
  <dc:title>ЗДОРОВЬЕ – это не подарок, который человек получает один раз и на всю жизнь, а результат сознательного поведения каждого человека и всех в обществе.</dc:title>
</cp:coreProperties>
</file>